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bserie06.wav" ContentType="audio/x-wav"/>
  <Override PartName="/ppt/media/zapbig0g.wav" ContentType="audio/x-wav"/>
  <Override PartName="/ppt/media/zipdn102.wav" ContentType="audio/x-wav"/>
  <Override PartName="/ppt/media/caralarmoff.wav" ContentType="audio/x-wav"/>
  <Override PartName="/ppt/media/jetflyby.wav" ContentType="audio/x-wav"/>
  <Override PartName="/ppt/media/LASER.WAV" ContentType="audio/x-wav"/>
  <Override PartName="/ppt/media/CAMERA.WAV" ContentType="audio/x-wav"/>
  <Override PartName="/ppt/media/image1.jpeg" ContentType="image/jpeg"/>
  <Override PartName="/ppt/media/CARBRAKE.WAV" ContentType="audio/x-wav"/>
  <Override PartName="/ppt/media/DRIVEBY.WAV" ContentType="audio/x-wav"/>
  <Override PartName="/ppt/media/hzipup01.wav" ContentType="audio/x-wav"/>
  <Override PartName="/ppt/media/CHIMES.WAV" ContentType="audio/x-wav"/>
  <Override PartName="/ppt/media/fastca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1DB4-156C-4AB1-B661-A5F8C16D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2665-76F5-4BCC-9AFB-5FACF7DE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EC88-1D48-480C-88FB-B18AF0399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435F-2470-425F-ADD2-D1A2A9063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03EB-7E2B-4CC2-92D9-82C4C3C0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9922-DD68-4408-9F70-C6053870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1C07-A2FB-43A9-BCBB-25F84580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EFC5-FF9F-443F-9043-91EDA82A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9FE3-3884-47D8-87AA-6FD02FFC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3410-424B-4653-AB8A-65843B02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28B7-C29F-4F68-B16C-6B488495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00DB-B85D-4CCF-8621-59C0C244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BC08-A89B-4F3A-BC0D-51A0B9CA9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zapbig0g.wav"/><Relationship Id="rId3" Type="http://schemas.openxmlformats.org/officeDocument/2006/relationships/audio" Target="../media/zapbig0g.wav"/><Relationship Id="rId4" Type="http://schemas.openxmlformats.org/officeDocument/2006/relationships/audio" Target="../media/caralarmoff.wav"/><Relationship Id="rId5" Type="http://schemas.openxmlformats.org/officeDocument/2006/relationships/audio" Target="../media/jetflyby.wav"/><Relationship Id="rId6" Type="http://schemas.openxmlformats.org/officeDocument/2006/relationships/audio" Target="../media/caralarmoff.wav"/><Relationship Id="rId7" Type="http://schemas.openxmlformats.org/officeDocument/2006/relationships/audio" Target="../media/LASER.WAV"/><Relationship Id="rId8" Type="http://schemas.openxmlformats.org/officeDocument/2006/relationships/audio" Target="../media/CARBRAKE.WAV"/><Relationship Id="rId9" Type="http://schemas.openxmlformats.org/officeDocument/2006/relationships/audio" Target="../media/hzipup01.wav"/><Relationship Id="rId10" Type="http://schemas.openxmlformats.org/officeDocument/2006/relationships/audio" Target="../media/CARBRAKE.WAV"/><Relationship Id="rId11" Type="http://schemas.openxmlformats.org/officeDocument/2006/relationships/audio" Target="../media/hzipup01.wav"/><Relationship Id="rId12" Type="http://schemas.openxmlformats.org/officeDocument/2006/relationships/audio" Target="../media/CARBRAKE.WAV"/><Relationship Id="rId13" Type="http://schemas.openxmlformats.org/officeDocument/2006/relationships/audio" Target="../media/hzipup01.wav"/><Relationship Id="rId14" Type="http://schemas.openxmlformats.org/officeDocument/2006/relationships/audio" Target="../media/CHIMES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DRIVEBY.WAV"/><Relationship Id="rId21" Type="http://schemas.openxmlformats.org/officeDocument/2006/relationships/audio" Target="../media/CARBRAKE.WAV"/><Relationship Id="rId22" Type="http://schemas.openxmlformats.org/officeDocument/2006/relationships/audio" Target="../media/DRIVEBY.WAV"/><Relationship Id="rId23" Type="http://schemas.openxmlformats.org/officeDocument/2006/relationships/audio" Target="../media/DRIVEBY.WAV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CAMERA.WAV"/><Relationship Id="rId3" Type="http://schemas.openxmlformats.org/officeDocument/2006/relationships/audio" Target="../media/jetflyby.wav"/><Relationship Id="rId4" Type="http://schemas.openxmlformats.org/officeDocument/2006/relationships/audio" Target="../media/caralarmoff.wav"/><Relationship Id="rId5" Type="http://schemas.openxmlformats.org/officeDocument/2006/relationships/audio" Target="../media/CAMERA.WAV"/><Relationship Id="rId6" Type="http://schemas.openxmlformats.org/officeDocument/2006/relationships/audio" Target="../media/jetflyby.wav"/><Relationship Id="rId7" Type="http://schemas.openxmlformats.org/officeDocument/2006/relationships/audio" Target="../media/caralarmoff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DRIVEBY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DRIVEBY.WAV"/><Relationship Id="rId23" Type="http://schemas.openxmlformats.org/officeDocument/2006/relationships/audio" Target="../media/CARBRAKE.WAV"/><Relationship Id="rId24" Type="http://schemas.openxmlformats.org/officeDocument/2006/relationships/audio" Target="../media/DRIVEBY.WAV"/><Relationship Id="rId25" Type="http://schemas.openxmlformats.org/officeDocument/2006/relationships/audio" Target="../media/DRIVEBY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audio" Target="../media/DRIVEBY.WAV"/><Relationship Id="rId32" Type="http://schemas.openxmlformats.org/officeDocument/2006/relationships/audio" Target="../media/CARBRAKE.WAV"/><Relationship Id="rId33" Type="http://schemas.openxmlformats.org/officeDocument/2006/relationships/audio" Target="../media/DRIVEBY.WAV"/><Relationship Id="rId34" Type="http://schemas.openxmlformats.org/officeDocument/2006/relationships/audio" Target="../media/DRIVEBY.WAV"/><Relationship Id="rId3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zapbig0g.wav"/><Relationship Id="rId3" Type="http://schemas.openxmlformats.org/officeDocument/2006/relationships/audio" Target="../media/zapbig0g.wav"/><Relationship Id="rId4" Type="http://schemas.openxmlformats.org/officeDocument/2006/relationships/audio" Target="../media/caralarmoff.wav"/><Relationship Id="rId5" Type="http://schemas.openxmlformats.org/officeDocument/2006/relationships/audio" Target="../media/jetflyby.wav"/><Relationship Id="rId6" Type="http://schemas.openxmlformats.org/officeDocument/2006/relationships/audio" Target="../media/jetflyby.wav"/><Relationship Id="rId7" Type="http://schemas.openxmlformats.org/officeDocument/2006/relationships/audio" Target="../media/caralarmoff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CHIMES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DRIVEBY.WAV"/><Relationship Id="rId19" Type="http://schemas.openxmlformats.org/officeDocument/2006/relationships/audio" Target="../media/CARBRAKE.WAV"/><Relationship Id="rId20" Type="http://schemas.openxmlformats.org/officeDocument/2006/relationships/audio" Target="../media/DRIVEBY.WAV"/><Relationship Id="rId21" Type="http://schemas.openxmlformats.org/officeDocument/2006/relationships/audio" Target="../media/DRIVEBY.WAV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jetflyby.wav"/><Relationship Id="rId2" Type="http://schemas.openxmlformats.org/officeDocument/2006/relationships/audio" Target="../media/jetflyby.wav"/><Relationship Id="rId3" Type="http://schemas.openxmlformats.org/officeDocument/2006/relationships/audio" Target="../media/caralarmoff.wav"/><Relationship Id="rId4" Type="http://schemas.openxmlformats.org/officeDocument/2006/relationships/audio" Target="../media/LASER.WAV"/><Relationship Id="rId5" Type="http://schemas.openxmlformats.org/officeDocument/2006/relationships/audio" Target="../media/CARBRAKE.WAV"/><Relationship Id="rId6" Type="http://schemas.openxmlformats.org/officeDocument/2006/relationships/audio" Target="../media/hzipup01.wav"/><Relationship Id="rId7" Type="http://schemas.openxmlformats.org/officeDocument/2006/relationships/audio" Target="../media/CARBRAKE.WAV"/><Relationship Id="rId8" Type="http://schemas.openxmlformats.org/officeDocument/2006/relationships/audio" Target="../media/hzipup01.wav"/><Relationship Id="rId9" Type="http://schemas.openxmlformats.org/officeDocument/2006/relationships/audio" Target="../media/CARBRAKE.WAV"/><Relationship Id="rId10" Type="http://schemas.openxmlformats.org/officeDocument/2006/relationships/audio" Target="../media/hzipup01.wav"/><Relationship Id="rId11" Type="http://schemas.openxmlformats.org/officeDocument/2006/relationships/audio" Target="../media/CHIMES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DRIVEBY.WAV"/><Relationship Id="rId18" Type="http://schemas.openxmlformats.org/officeDocument/2006/relationships/audio" Target="../media/CARBRAKE.WAV"/><Relationship Id="rId19" Type="http://schemas.openxmlformats.org/officeDocument/2006/relationships/audio" Target="../media/DRIVEBY.WAV"/><Relationship Id="rId20" Type="http://schemas.openxmlformats.org/officeDocument/2006/relationships/audio" Target="../media/DRIVEBY.WAV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audio" Target="../media/caralarmoff.wav"/><Relationship Id="rId8" Type="http://schemas.openxmlformats.org/officeDocument/2006/relationships/audio" Target="../media/fastcar.wav"/><Relationship Id="rId9" Type="http://schemas.openxmlformats.org/officeDocument/2006/relationships/audio" Target="../media/fastcar.wav"/><Relationship Id="rId10" Type="http://schemas.openxmlformats.org/officeDocument/2006/relationships/audio" Target="../media/fastca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DRIVEBY.WAV"/><Relationship Id="rId17" Type="http://schemas.openxmlformats.org/officeDocument/2006/relationships/audio" Target="../media/CARBRAKE.WAV"/><Relationship Id="rId18" Type="http://schemas.openxmlformats.org/officeDocument/2006/relationships/audio" Target="../media/DRIVEBY.WAV"/><Relationship Id="rId19" Type="http://schemas.openxmlformats.org/officeDocument/2006/relationships/audio" Target="../media/DRIVEBY.WAV"/><Relationship Id="rId20" Type="http://schemas.openxmlformats.org/officeDocument/2006/relationships/audio" Target="../media/caralarmoff.wav"/><Relationship Id="rId21" Type="http://schemas.openxmlformats.org/officeDocument/2006/relationships/audio" Target="../media/caralarmoff.wav"/><Relationship Id="rId22" Type="http://schemas.openxmlformats.org/officeDocument/2006/relationships/audio" Target="../media/zipdn102.wav"/><Relationship Id="rId23" Type="http://schemas.openxmlformats.org/officeDocument/2006/relationships/audio" Target="../media/zipdn102.wav"/><Relationship Id="rId24" Type="http://schemas.openxmlformats.org/officeDocument/2006/relationships/audio" Target="../media/caralarmoff.wav"/><Relationship Id="rId25" Type="http://schemas.openxmlformats.org/officeDocument/2006/relationships/audio" Target="../media/zipdn102.wav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audio" Target="../media/caralarmoff.wav"/><Relationship Id="rId10" Type="http://schemas.openxmlformats.org/officeDocument/2006/relationships/audio" Target="../media/zipdn102.wav"/><Relationship Id="rId11" Type="http://schemas.openxmlformats.org/officeDocument/2006/relationships/audio" Target="../media/caralarmoff.wav"/><Relationship Id="rId12" Type="http://schemas.openxmlformats.org/officeDocument/2006/relationships/audio" Target="../media/zipdn102.wav"/><Relationship Id="rId13" Type="http://schemas.openxmlformats.org/officeDocument/2006/relationships/audio" Target="../media/caralarmoff.wav"/><Relationship Id="rId14" Type="http://schemas.openxmlformats.org/officeDocument/2006/relationships/audio" Target="../media/zipdn102.wav"/><Relationship Id="rId15" Type="http://schemas.openxmlformats.org/officeDocument/2006/relationships/audio" Target="../media/zipdn102.wav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Notes Over 12 -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 Make a box-and-whisker plot for the following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1752480"/>
            <a:ext cx="5029200" cy="873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1  35  61  40  22  33  29  40  62  21  49  72  75  28  21  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66688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21  21  22  28  29  33  35  40  40  49  54  61  61  62  72  7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26668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67080" y="3581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26668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0" y="26668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35812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53080" y="3581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28600" y="4724280"/>
            <a:ext cx="8915400" cy="688320"/>
            <a:chOff x="228600" y="4724280"/>
            <a:chExt cx="8915400" cy="688320"/>
          </a:xfrm>
        </p:grpSpPr>
        <p:sp>
          <p:nvSpPr>
            <p:cNvPr id="52" name=""/>
            <p:cNvSpPr/>
            <p:nvPr/>
          </p:nvSpPr>
          <p:spPr>
            <a:xfrm>
              <a:off x="228600" y="487692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43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600" y="4952880"/>
              <a:ext cx="891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20     25     30     35     40     45     50     55     60     65     70     75     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43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288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288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146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146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004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5146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2004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2004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862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862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578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862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72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578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2578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436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436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9436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294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294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3152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152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01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001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6868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533520" y="5791320"/>
            <a:ext cx="15228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24680" y="5791320"/>
            <a:ext cx="15264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86080" y="5791320"/>
            <a:ext cx="15228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76800" y="5772240"/>
            <a:ext cx="15264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86280" y="5791320"/>
            <a:ext cx="15228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81120" y="5581800"/>
            <a:ext cx="4572000" cy="57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81320" y="5562720"/>
            <a:ext cx="0" cy="59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47640" y="5867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134040" y="5867280"/>
            <a:ext cx="1866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609480"/>
            <a:ext cx="7543800" cy="495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24120" y="590400"/>
            <a:ext cx="641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Box-and-Whisker Pl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75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75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67400" y="3371760"/>
            <a:ext cx="723600" cy="457200"/>
          </a:xfrm>
          <a:prstGeom prst="ellipse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38600" y="3371760"/>
            <a:ext cx="723600" cy="457200"/>
          </a:xfrm>
          <a:prstGeom prst="ellipse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96200" y="3371760"/>
            <a:ext cx="723600" cy="457200"/>
          </a:xfrm>
          <a:prstGeom prst="ellipse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67400" y="2305080"/>
            <a:ext cx="723600" cy="457200"/>
          </a:xfrm>
          <a:prstGeom prst="ellipse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38600" y="2305080"/>
            <a:ext cx="723600" cy="457200"/>
          </a:xfrm>
          <a:prstGeom prst="ellipse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96200" y="2305080"/>
            <a:ext cx="723600" cy="457200"/>
          </a:xfrm>
          <a:prstGeom prst="ellipse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22287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67  68  71  76  79  79  82  84  85  90  9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Notes Over 12 -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 Use box-and-whisker plots to compare test sc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1752480"/>
            <a:ext cx="6724440" cy="873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2  84  76  68  90  67  82  71  79  85  79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62080" y="5105520"/>
            <a:ext cx="15228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34040" y="5105520"/>
            <a:ext cx="15264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62000" y="5105520"/>
            <a:ext cx="15264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86480" y="5105520"/>
            <a:ext cx="15228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43480" y="5105520"/>
            <a:ext cx="15228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38320" y="4896000"/>
            <a:ext cx="2743200" cy="57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38520" y="4876920"/>
            <a:ext cx="0" cy="59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314360" y="5181480"/>
            <a:ext cx="66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743360" y="5162400"/>
            <a:ext cx="1409760" cy="1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695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Class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2819520"/>
            <a:ext cx="6724440" cy="873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8  93  81  98  69  95  74  87  81  75  83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762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Class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33480" y="3314880"/>
            <a:ext cx="821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69  74  75  78  81  81  83  87  93  95  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99960" y="4019400"/>
            <a:ext cx="7924680" cy="886320"/>
            <a:chOff x="399960" y="4019400"/>
            <a:chExt cx="7924680" cy="886320"/>
          </a:xfrm>
        </p:grpSpPr>
        <p:sp>
          <p:nvSpPr>
            <p:cNvPr id="121" name=""/>
            <p:cNvSpPr/>
            <p:nvPr/>
          </p:nvSpPr>
          <p:spPr>
            <a:xfrm>
              <a:off x="399960" y="4172040"/>
              <a:ext cx="7924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7160" y="4019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47880" y="4019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47880" y="4019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38240" y="4019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38240" y="4019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28960" y="4019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28960" y="4019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19680" y="4019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28960" y="4019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19680" y="4019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19680" y="4019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10040" y="4019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10040" y="4019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00760" y="4019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00760" y="4019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791480" y="4019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2240" y="432432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65     70      75      80     85      90      95     1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581120" y="5829480"/>
            <a:ext cx="15228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53360" y="5810400"/>
            <a:ext cx="15228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5040" y="5829480"/>
            <a:ext cx="15264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62640" y="5829480"/>
            <a:ext cx="15264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00680" y="5848200"/>
            <a:ext cx="152280" cy="1526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00440" y="5619600"/>
            <a:ext cx="3638520" cy="571680"/>
          </a:xfrm>
          <a:prstGeom prst="rect">
            <a:avLst/>
          </a:prstGeom>
          <a:noFill/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95720" y="5619600"/>
            <a:ext cx="0" cy="59076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752120" y="5924520"/>
            <a:ext cx="97164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6515280" y="5905440"/>
            <a:ext cx="87624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609480"/>
            <a:ext cx="7543800" cy="495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24120" y="590400"/>
            <a:ext cx="641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Box-and-Whisker Pl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75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75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75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75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626160" y="2943360"/>
            <a:ext cx="723960" cy="457200"/>
          </a:xfrm>
          <a:prstGeom prst="ellipse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57520" y="2963880"/>
            <a:ext cx="723600" cy="457200"/>
          </a:xfrm>
          <a:prstGeom prst="ellipse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87880" y="2986200"/>
            <a:ext cx="723960" cy="457200"/>
          </a:xfrm>
          <a:prstGeom prst="ellipse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g 616 12.2 #1-7, 8-14,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14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a box-and-whisker plot for each set of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1752480"/>
            <a:ext cx="5029200" cy="873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  18  59  75  30  34  25  49  27  16  21  58  71  19  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2898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6  16  18  19  21  25  27  30  34  49  50  58  59  71  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28600" y="4724280"/>
            <a:ext cx="8915400" cy="688320"/>
            <a:chOff x="228600" y="4724280"/>
            <a:chExt cx="8915400" cy="688320"/>
          </a:xfrm>
        </p:grpSpPr>
        <p:sp>
          <p:nvSpPr>
            <p:cNvPr id="158" name=""/>
            <p:cNvSpPr/>
            <p:nvPr/>
          </p:nvSpPr>
          <p:spPr>
            <a:xfrm>
              <a:off x="228600" y="487692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72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43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8600" y="4952880"/>
              <a:ext cx="891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15     20     25     30     35     40     45     50     55     60     65     70     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43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288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288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146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5146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004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146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004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004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862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862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578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862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72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72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578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578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436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436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294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9436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294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6294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152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152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001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001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6868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33520" y="5791320"/>
            <a:ext cx="15228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605800" y="5776920"/>
            <a:ext cx="15228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33480" y="5791320"/>
            <a:ext cx="15228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23040" y="5772240"/>
            <a:ext cx="15228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48000" y="5791320"/>
            <a:ext cx="15228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15920" y="5546880"/>
            <a:ext cx="5384880" cy="57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33680" y="5524560"/>
            <a:ext cx="0" cy="59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47640" y="5867280"/>
            <a:ext cx="363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6409800" y="5854680"/>
            <a:ext cx="2259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609480"/>
            <a:ext cx="7543800" cy="495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24120" y="590400"/>
            <a:ext cx="641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Box-and-Whisker Pl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1668600"/>
            <a:ext cx="8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75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75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g 616 12.2 #1-7, 8-14,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14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a box-and-whisker plot for each set of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76520" y="1752480"/>
            <a:ext cx="5029200" cy="873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38  149  200  101  128  196  186  150  129  176  192  1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289872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101  128  129  138  149  150  176  186  190  192  196  2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28600" y="4724280"/>
            <a:ext cx="8915400" cy="688320"/>
            <a:chOff x="228600" y="4724280"/>
            <a:chExt cx="8915400" cy="688320"/>
          </a:xfrm>
        </p:grpSpPr>
        <p:sp>
          <p:nvSpPr>
            <p:cNvPr id="209" name=""/>
            <p:cNvSpPr/>
            <p:nvPr/>
          </p:nvSpPr>
          <p:spPr>
            <a:xfrm>
              <a:off x="228600" y="487692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572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43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8600" y="4952880"/>
              <a:ext cx="891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90   100    110   120   130   140   150   160   170   180   190   200   2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43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288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288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146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5146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004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146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04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004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862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862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72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72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578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862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72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72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2578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578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436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436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294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436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294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294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152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3152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001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0010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686800" y="4724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1168560" y="5778360"/>
            <a:ext cx="152280" cy="1526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920000" y="5776920"/>
            <a:ext cx="15228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71760" y="5765760"/>
            <a:ext cx="15264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77120" y="5784840"/>
            <a:ext cx="15228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45000" y="5765760"/>
            <a:ext cx="15264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41600" y="5562720"/>
            <a:ext cx="4013280" cy="57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530680" y="5537160"/>
            <a:ext cx="0" cy="590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282320" y="5854680"/>
            <a:ext cx="214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7426080" y="5854680"/>
            <a:ext cx="569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00200" y="609480"/>
            <a:ext cx="7543800" cy="495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24120" y="590400"/>
            <a:ext cx="641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Box-and-Whisker Pl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1668600"/>
            <a:ext cx="8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97560" y="280656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52960" y="37209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311560" y="279396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83560" y="279396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89120" y="3708360"/>
            <a:ext cx="120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33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38960" y="3708360"/>
            <a:ext cx="87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75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75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g 616 12.2 #1-7, 8-14,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1143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se the box-and-whisker plot to answer each ques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2325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250344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50           60           70           80          90          100         110         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5640" y="3211560"/>
            <a:ext cx="15264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920000" y="3195720"/>
            <a:ext cx="15228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44480" y="3213000"/>
            <a:ext cx="152640" cy="1526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33840" y="3203640"/>
            <a:ext cx="15264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03680" y="3198960"/>
            <a:ext cx="15228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728720" y="2995560"/>
            <a:ext cx="2881440" cy="571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73520" y="2998800"/>
            <a:ext cx="0" cy="59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542880" y="3287880"/>
            <a:ext cx="118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597200" y="3273480"/>
            <a:ext cx="33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00200" y="609480"/>
            <a:ext cx="7543800" cy="495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24120" y="590400"/>
            <a:ext cx="641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Box-and-Whisker Pl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4880" y="2076480"/>
            <a:ext cx="85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     l     l     l     l     l     l     l     l     l     l     l     l     l     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156996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ices of Portable CD Players ($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68136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.  What are the highest and lowest prices for the CD playe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066760" y="4270320"/>
            <a:ext cx="914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$5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497400" y="4275000"/>
            <a:ext cx="12189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$11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51037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.  What is the median price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288040" y="5040360"/>
            <a:ext cx="914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$7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500"/>
                            </p:stCondLst>
                            <p:childTnLst>
                              <p:par>
                                <p:cTn id="60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5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3500"/>
                            </p:stCondLst>
                            <p:childTnLst>
                              <p:par>
                                <p:cTn id="6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40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g 616 12.2 #1-7, 8-14,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143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se the box-and-whisker plot to answer each ques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" y="2325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" y="250344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50           60           70           80          90          100         110         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5640" y="3211560"/>
            <a:ext cx="15264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920000" y="3195720"/>
            <a:ext cx="15228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44480" y="3213000"/>
            <a:ext cx="152640" cy="1526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33840" y="3203640"/>
            <a:ext cx="15264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03680" y="3198960"/>
            <a:ext cx="15228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28720" y="2995560"/>
            <a:ext cx="2881440" cy="571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73520" y="2998800"/>
            <a:ext cx="0" cy="59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42880" y="3287880"/>
            <a:ext cx="118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4597200" y="3273480"/>
            <a:ext cx="33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600200" y="609480"/>
            <a:ext cx="7543800" cy="495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24120" y="590400"/>
            <a:ext cx="641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Box-and-Whisker Pl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4880" y="2076480"/>
            <a:ext cx="85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     l     l     l     l     l     l     l     l     l     l     l     l     l     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156996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ices of Portable CD Players ($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38322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5.  What is the lower quartile price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157800" y="3768840"/>
            <a:ext cx="914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$6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451656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6.  What is the upper quartile price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232680" y="4467240"/>
            <a:ext cx="914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$8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52992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7.  Are the prices evenly distributed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90520" y="6151680"/>
            <a:ext cx="85438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There is a wider spread of prices on the top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411960" y="5329080"/>
            <a:ext cx="685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N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8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g 616 12.2 #1-7, 8-14,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600200" y="609480"/>
            <a:ext cx="7543800" cy="495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24120" y="590400"/>
            <a:ext cx="641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Box-and-Whisker Pl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17:55:50Z</dcterms:created>
  <dc:creator>Don Helms</dc:creator>
  <dc:description/>
  <dc:language>en-US</dc:language>
  <cp:lastModifiedBy>DAMON SKELTON</cp:lastModifiedBy>
  <dcterms:modified xsi:type="dcterms:W3CDTF">2004-04-09T03:20:00Z</dcterms:modified>
  <cp:revision>15</cp:revision>
  <dc:subject/>
  <dc:title>No Slide Title</dc:title>
</cp:coreProperties>
</file>